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DA8-AC1F-44AF-94E6-E11748A0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2B1-1AD2-4944-A45D-C20745D0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3ED-F1BF-4F7F-960E-7598E364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DEF9-0ECB-4BFB-BE43-AD4E178A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6091-4E34-4306-B60F-9E21206A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7DC7-01C2-4548-AEC2-FEEBF030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8F2E-7CF7-43F7-822D-E2652DDF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36BC-E8ED-48F7-A6D3-ABE72066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516B-3731-4F4F-8BCE-9343F5A8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AD94-D675-4FD7-9DF4-71C02CD9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FBE9-4924-406D-AD79-B0EA639C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1F05-C54F-4E18-B755-B30A9F11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805D-9C7E-42FB-8D96-ED00C94A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2C5E-C2CD-49C9-B963-3D81985B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9E55-16D2-45D3-BDDA-898EFBF8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A437-3BE2-4200-A487-14BA7998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A608-9AD0-4674-A929-512CE2AB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C6A85-05B9-4E61-AB93-66DAE307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462CF-0ABE-4252-8D7C-21C61BC5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6531F-9430-431D-8748-89C93858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061B0-45F2-41CA-920F-09ACB010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3749F-F3C7-465A-A89F-036C42E9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1B7-8D58-490E-9EA3-B924EC15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40CDB-5FCC-47FF-BDB9-480A25CB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716FE-B24D-463E-A682-48B22204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034D2-5B9E-4898-8539-13EC782F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BFD12-7E48-4CF9-9102-171142B5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64230-E071-4120-BBBB-E29DA2EC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51DE8-0990-4548-B5C4-AA298A5A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5F4EF-9A7B-41B0-903E-875F3FEF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5571D-A7E4-493E-B1E9-E256DD90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144D5-ABB0-4D65-B3AF-09E422A1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09571-B29D-4DB6-9460-895393CF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AA2-B258-48A8-85ED-9FC9EAFD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F5EC0-97DD-4C8E-9B7D-9AFC242C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33216-8EEF-426E-89D9-8314F2A6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3E260-76E4-4183-A744-90856A21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3AB3A-AEA6-410D-8662-5980FB57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B7EDC-B59E-465B-8794-F9BE9366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B794A-6084-4B4E-A96F-690AE160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F2FD1-F984-4312-8A7B-2DB79ECE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86545-E232-4B9C-8160-68093EC1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D26D9-2154-4A9F-B9EF-02501680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406-0190-4F0B-A2F3-ACA209EA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BC8-6287-43DB-A27F-F5756581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896-B2AD-450A-8360-3122AF0B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367-8E63-410B-B0C6-896D4A91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974-7F1E-4A10-A60E-CED73303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2581-94E4-421E-87BE-CD4C63534DF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D84A-9717-4A0E-848E-C190E26D2BA3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1D8F-0B11-489B-96DD-669E6C232F6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0621-F556-44DC-A7A7-FA262AFC709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Children and Nursing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By: Dylan Stevenson and Kayla Kenney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hild Care and Nurs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arried late but once married, reproduced rapidly- 6 or more kids before deat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nfant mortality high along with high rates of death during childbirth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nlightenment allowed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1. Better medical practic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2. Better education-elementary scho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3. Parental nurturing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angers of Pregnanc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isk of death in childbirth of 5-1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ied of blood loss and shock during birt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usceptible to infection due to unsanitary condition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egnancy= fear rather than jo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5867280" y="4429080"/>
            <a:ext cx="22766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Wet nurs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Breast feeding decreased likelihood of pregnancy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-upper class women more births, rural women les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Infant sent away for 1-2 years to be fed by someone else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Nurses paid in 2 year payment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Particularly popular in France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Women in workforce didn’t nurse because no time for it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angers of Wet Nurs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ravel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ack of supervision at nurse’s hom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haring milk- spread germ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- “milk siblings”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illing nurses”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ussian nurses- dirty rag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5638680" y="3733920"/>
            <a:ext cx="23432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914040" y="144756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430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35% dead before 1</a:t>
            </a:r>
            <a:r>
              <a:rPr b="0" lang="en-US" sz="2400" spc="-1" strike="noStrike" baseline="30000">
                <a:solidFill>
                  <a:srgbClr val="3e3d2d"/>
                </a:solidFill>
                <a:latin typeface="Century Gothic"/>
              </a:rPr>
              <a:t>st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birthday, 20% died before 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asons for wet nurs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1. century old tradi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. many women in workfor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3. few alternatives to breast milk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nlightened thinkers against wet nursing,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ntraception and masturbation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569160" indent="-2426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Jean-Jacques Rousseau thought masturbation was mental rape. 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6781680" y="2057400"/>
            <a:ext cx="1123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fantic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bortion= no!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id pregnancies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infanticid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unishable by death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fanticide Act of 1624- single women try to conceal death considered murder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urts went from declaring guilty to trying to find proof of murd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eing young women as victims rather than criminal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5410080" y="762120"/>
            <a:ext cx="24195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Foundling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66320" y="228564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taly, Spain, and Portugal in 16</a:t>
            </a:r>
            <a:r>
              <a:rPr b="0" lang="en-US" sz="2400" spc="-1" strike="noStrike" baseline="30000">
                <a:solidFill>
                  <a:srgbClr val="3e3d2d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then to France and rest of Europe in 167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1/3 of all Parisian kids admitted to foundling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ost single women but 1/3 poor coupl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dmitting 100,000 children per yea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381400" cy="1838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2"/>
          <a:stretch/>
        </p:blipFill>
        <p:spPr>
          <a:xfrm>
            <a:off x="6781680" y="4876920"/>
            <a:ext cx="11718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914040" y="114264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ndlings good charity for ric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90% kids died, 50% within 1 year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ack of attention and unsanitar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egalized infanticide”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omas Malthus- The Principles of Population- discourage marriage and populatio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0" y="-681120"/>
            <a:ext cx="1028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4495680" y="3809880"/>
            <a:ext cx="18702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6:34:57Z</dcterms:created>
  <dc:creator>Dstevenson14@gmail.com</dc:creator>
  <dc:description/>
  <dc:language>en-US</dc:language>
  <cp:lastModifiedBy>PDCTESTLAB10</cp:lastModifiedBy>
  <dcterms:modified xsi:type="dcterms:W3CDTF">2012-12-10T04:58:29Z</dcterms:modified>
  <cp:revision>8</cp:revision>
  <dc:subject/>
  <dc:title>Children and Nursing</dc:title>
</cp:coreProperties>
</file>